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F58-EE7B-464D-AE48-0BEB8C6C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CEC-B3F2-4A04-90AB-CD1C5369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B53-B1DB-48E3-A51B-C6F50B9C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98F-3989-4C55-B571-91E28B2E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2287-6E30-4FB5-946C-B5B75C71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D1C5-7AD9-4F7D-BDB8-EC955AB8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D0CA-30FF-4699-B315-8C6741C8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DA64-50F7-467E-9732-31F82DA5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EC6A-B862-4526-9DA3-0C5F36F6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D521-7E44-423C-AE12-066A89EB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C1DF-1566-4EB7-8F3F-AB342602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C3FB-9646-428F-A38D-F61EB246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522A-993A-48AE-B578-35DD2AE8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A776-6D21-4703-9008-D2E096EB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FE02-BB25-44A9-825F-21BB25A4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FA4C-1ED7-405F-BA68-1AE19404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300C-797F-4EA9-AA3E-615087DE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1CF-6BE0-47C6-99BB-8EEA0D7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0BD-6E4A-403E-9448-F245FE66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CA9-1677-4A7A-9291-50D0E63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7F2-63A8-4ADC-8621-DA33234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D93-F400-4B8F-A46F-E7D3F0E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087-92D9-48D0-B57A-E7987F6C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4CE-73F1-47EE-AFE3-728EC418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FC64-9C04-4782-BA63-C16997F17F6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4B43-63E2-423F-8C48-C8963A5D6762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r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Nov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54628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AB Part 3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will complete NAB Part 2 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MONDAY 30</a:t>
            </a:r>
            <a:r>
              <a:rPr b="0" lang="en-US" sz="4400" spc="-1" strike="noStrike" u="sng" baseline="30000">
                <a:solidFill>
                  <a:srgbClr val="ff0000"/>
                </a:solidFill>
                <a:uFillTx/>
                <a:latin typeface="Comic Sans MS"/>
              </a:rPr>
              <a:t>th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NOVEMBER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riod Starter……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y are observation schedules appropriate to use in badmint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 able to describe all aspects of a model perfor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 able to descri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 aspect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ges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32036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sing pages 7-9 of your booklet and your knowledge gained from class write down (using sentences!) all you know about a model perform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84720" y="4581360"/>
            <a:ext cx="2845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sing pages 14&amp;15 of your booklet and your knowledge gained from class write down (using sentences!) all you know about sta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262728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all aspects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el Performer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ge of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preparation for the NAB Part 2 which you will complet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DER EXAM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 Monday 30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November 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Laura Kirkpatrick</cp:lastModifiedBy>
  <dcterms:modified xsi:type="dcterms:W3CDTF">2009-11-23T08:44:01Z</dcterms:modified>
  <cp:revision>51</cp:revision>
  <dc:subject/>
  <dc:title>Slide 1</dc:title>
</cp:coreProperties>
</file>